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718-B34A-4038-85B5-54035CF1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28B-BE3A-4B54-9328-2112F6EB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5B7-6E1C-4D26-9A62-638F35E1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787-1263-46D1-904B-E2680E35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1D9-917B-4402-B76B-7798477A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E0F-E9C8-40FA-827B-C7B1F84F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4FD-F2B2-4943-9BC6-FF189FDA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CE4-67C8-4F3B-89B0-F04305F7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A40-D24D-4EA2-AAEA-4D465CCD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562-37A7-41C0-A0AF-B7B88616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4F3-71A9-4145-B943-4A060D83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1A4-DD82-410D-981B-D8978890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8766-533D-4AEF-A8A4-E40DA02A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47C4-CB54-4906-8584-62FF803B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494A-958C-4824-AEEA-8C88A161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0A2B-0615-45E2-B8CB-A47B894C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B899-2CEC-4530-864D-A10B8805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16E2-9A1F-4507-A595-3D6DA912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813A-6ED6-4C4C-88E4-69EC200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1A44-B824-4D0B-9B14-94843EC7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536C-8B36-4D2D-AF05-A38B6F81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46A3-8459-4375-8888-A7DF7174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DD2D-5074-4DC0-AB4D-DDD8554B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2F99-034F-4BE4-89BB-27C7306C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5986-CF06-4429-B6F1-5B802798EB4A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212F-08BC-4998-AA50-26C6EC704272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46784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линичка фармација 1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давање бр. 14</a:t>
            </a:r>
            <a:br>
              <a:rPr sz="5600"/>
            </a:br>
            <a:br>
              <a:rPr sz="5600"/>
            </a:b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линичког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фармацеут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омп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тације случ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ja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–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Ако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пацијент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прим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с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уском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терапијском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ширином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клинички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фармацеут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треб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матр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луча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клиничке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фармакокинети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стал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информација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лек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матра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левант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информације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пацијен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Целокуп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агледа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пречић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реш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одговори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писа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гова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а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бсорб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трибуи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ндивидуал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одговори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хтева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рум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ш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ућ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хтев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зе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огућ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боратор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греш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уков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зор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одговори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рмакокинетичк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раметр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ђ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рупа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зе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бзи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рмакодинам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фек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ав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супресиви : циклоспорин, такролимус, сирол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е фармакокинетичке информациј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Апсорб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ће интеракције лек-храна, лек-биљна супстанца, лек-лек инте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Дистрибуциј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клоспорин се 90% везује за протеине (липопротеини), такролимус 99% се везује за протеине плазме; сиролимус 92% везује за плазма проте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Елиминациј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транспорт и метболизам укључен  цитохром П450 3А и П гликопротеин, на које утичу генетски други фактор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има који примају јаке инхибиторе цитохром П450 3А и П гликопротеина потребно је смањити дозу лека или повећати дозни 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супресиви : циклоспорин, такролимус, сирол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ски 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ска ефикасност и токсичност зависе од постигнуте концентрације л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ешћи мониторинг је потребан код пацијената код којих је установљена промена фармакокинетичких параметара, као и у раном посттрансплантационом пери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рез код пацијената са оштећеном функцијом јетре, деце, као и код пацијената који узимају јаке ЦИП3А индукторе или инхибит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супресиви : циклоспорин, такролимус, сирол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динамски 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икасност у корелацији са постигнутом концентрцијом лека , али са већом концентрацијом расте и ризик од примене лека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Р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сичност која није у вези са концентрциј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,Т,С малигнитет, пост трансплат. лимфопролиферативне боле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ролимус и.в.: повећан ризик од анафилаксе, као и аритм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ролимус: анфилакс, дермтитис, ангиоедем, хиперсензитиван васкулитис, болестиплућа, периферни едем, бдоминлни бол, ртрлги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Шт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треб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радим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ка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обијем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звештај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концентрациј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з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лабораториј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14400" y="1295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" name="Text Box 5"/>
          <p:cNvGrpSpPr/>
          <p:nvPr/>
        </p:nvGrpSpPr>
        <p:grpSpPr>
          <a:xfrm>
            <a:off x="426960" y="1073160"/>
            <a:ext cx="2297160" cy="907920"/>
            <a:chOff x="426960" y="1073160"/>
            <a:chExt cx="2297160" cy="907920"/>
          </a:xfrm>
        </p:grpSpPr>
        <p:pic>
          <p:nvPicPr>
            <p:cNvPr id="174" name="Text Box 5" descr=""/>
            <p:cNvPicPr/>
            <p:nvPr/>
          </p:nvPicPr>
          <p:blipFill>
            <a:blip r:embed="rId1"/>
            <a:stretch/>
          </p:blipFill>
          <p:spPr>
            <a:xfrm>
              <a:off x="426960" y="1073160"/>
              <a:ext cx="22971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33520" y="11430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Концентрација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ле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" name="Text Box 6"/>
          <p:cNvGrpSpPr/>
          <p:nvPr/>
        </p:nvGrpSpPr>
        <p:grpSpPr>
          <a:xfrm>
            <a:off x="1054080" y="1706400"/>
            <a:ext cx="2811600" cy="781200"/>
            <a:chOff x="1054080" y="1706400"/>
            <a:chExt cx="2811600" cy="781200"/>
          </a:xfrm>
        </p:grpSpPr>
        <p:pic>
          <p:nvPicPr>
            <p:cNvPr id="177" name="Text Box 6" descr=""/>
            <p:cNvPicPr/>
            <p:nvPr/>
          </p:nvPicPr>
          <p:blipFill>
            <a:blip r:embed="rId2"/>
            <a:stretch/>
          </p:blipFill>
          <p:spPr>
            <a:xfrm>
              <a:off x="1054080" y="1706400"/>
              <a:ext cx="28116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143000" y="17524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је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узорак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узет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у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коректно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време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" name="Text Box 7"/>
          <p:cNvGrpSpPr/>
          <p:nvPr/>
        </p:nvGrpSpPr>
        <p:grpSpPr>
          <a:xfrm>
            <a:off x="4237200" y="1987560"/>
            <a:ext cx="925200" cy="633240"/>
            <a:chOff x="4237200" y="1987560"/>
            <a:chExt cx="925200" cy="633240"/>
          </a:xfrm>
        </p:grpSpPr>
        <p:pic>
          <p:nvPicPr>
            <p:cNvPr id="180" name="Text Box 7" descr=""/>
            <p:cNvPicPr/>
            <p:nvPr/>
          </p:nvPicPr>
          <p:blipFill>
            <a:blip r:embed="rId3"/>
            <a:stretch/>
          </p:blipFill>
          <p:spPr>
            <a:xfrm>
              <a:off x="4237200" y="1987560"/>
              <a:ext cx="9252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343400" y="2057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Text Box 8"/>
          <p:cNvGrpSpPr/>
          <p:nvPr/>
        </p:nvGrpSpPr>
        <p:grpSpPr>
          <a:xfrm>
            <a:off x="5376960" y="1305000"/>
            <a:ext cx="1689120" cy="633240"/>
            <a:chOff x="5376960" y="1305000"/>
            <a:chExt cx="1689120" cy="633240"/>
          </a:xfrm>
        </p:grpSpPr>
        <p:pic>
          <p:nvPicPr>
            <p:cNvPr id="183" name="Text Box 8" descr=""/>
            <p:cNvPicPr/>
            <p:nvPr/>
          </p:nvPicPr>
          <p:blipFill>
            <a:blip r:embed="rId4"/>
            <a:stretch/>
          </p:blipFill>
          <p:spPr>
            <a:xfrm>
              <a:off x="5376960" y="1305000"/>
              <a:ext cx="16891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486400" y="1371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оновит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Text Box 9"/>
          <p:cNvGrpSpPr/>
          <p:nvPr/>
        </p:nvGrpSpPr>
        <p:grpSpPr>
          <a:xfrm>
            <a:off x="2408400" y="2371680"/>
            <a:ext cx="925200" cy="633600"/>
            <a:chOff x="2408400" y="2371680"/>
            <a:chExt cx="925200" cy="633600"/>
          </a:xfrm>
        </p:grpSpPr>
        <p:pic>
          <p:nvPicPr>
            <p:cNvPr id="186" name="Text Box 9" descr=""/>
            <p:cNvPicPr/>
            <p:nvPr/>
          </p:nvPicPr>
          <p:blipFill>
            <a:blip r:embed="rId5"/>
            <a:stretch/>
          </p:blipFill>
          <p:spPr>
            <a:xfrm>
              <a:off x="2408400" y="2371680"/>
              <a:ext cx="9252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514600" y="24382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Text Box 10"/>
          <p:cNvGrpSpPr/>
          <p:nvPr/>
        </p:nvGrpSpPr>
        <p:grpSpPr>
          <a:xfrm>
            <a:off x="195120" y="2828880"/>
            <a:ext cx="2603520" cy="907920"/>
            <a:chOff x="195120" y="2828880"/>
            <a:chExt cx="2603520" cy="907920"/>
          </a:xfrm>
        </p:grpSpPr>
        <p:pic>
          <p:nvPicPr>
            <p:cNvPr id="189" name="Text Box 10" descr=""/>
            <p:cNvPicPr/>
            <p:nvPr/>
          </p:nvPicPr>
          <p:blipFill>
            <a:blip r:embed="rId6"/>
            <a:stretch/>
          </p:blipFill>
          <p:spPr>
            <a:xfrm>
              <a:off x="195120" y="2828880"/>
              <a:ext cx="2603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04920" y="2895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Концентрација</a:t>
              </a:r>
              <a:r>
                <a:rPr b="1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пренис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Text Box 13"/>
          <p:cNvGrpSpPr/>
          <p:nvPr/>
        </p:nvGrpSpPr>
        <p:grpSpPr>
          <a:xfrm>
            <a:off x="5383080" y="2530440"/>
            <a:ext cx="3359160" cy="596880"/>
            <a:chOff x="5383080" y="2530440"/>
            <a:chExt cx="3359160" cy="596880"/>
          </a:xfrm>
        </p:grpSpPr>
        <p:pic>
          <p:nvPicPr>
            <p:cNvPr id="192" name="Text Box 13" descr=""/>
            <p:cNvPicPr/>
            <p:nvPr/>
          </p:nvPicPr>
          <p:blipFill>
            <a:blip r:embed="rId7"/>
            <a:stretch/>
          </p:blipFill>
          <p:spPr>
            <a:xfrm>
              <a:off x="5383080" y="2530440"/>
              <a:ext cx="33591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486400" y="259092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Концентрација</a:t>
              </a:r>
              <a:r>
                <a:rPr b="1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превисо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Text Box 15"/>
          <p:cNvGrpSpPr/>
          <p:nvPr/>
        </p:nvGrpSpPr>
        <p:grpSpPr>
          <a:xfrm>
            <a:off x="384120" y="3614760"/>
            <a:ext cx="2035080" cy="938160"/>
            <a:chOff x="384120" y="3614760"/>
            <a:chExt cx="2035080" cy="938160"/>
          </a:xfrm>
        </p:grpSpPr>
        <p:pic>
          <p:nvPicPr>
            <p:cNvPr id="195" name="Text Box 15" descr=""/>
            <p:cNvPicPr/>
            <p:nvPr/>
          </p:nvPicPr>
          <p:blipFill>
            <a:blip r:embed="rId8"/>
            <a:stretch/>
          </p:blipFill>
          <p:spPr>
            <a:xfrm>
              <a:off x="384120" y="3614760"/>
              <a:ext cx="20350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57200" y="3657600"/>
              <a:ext cx="1905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је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пацијент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у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равнотежном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стању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7" name="Text Box 16"/>
          <p:cNvGrpSpPr/>
          <p:nvPr/>
        </p:nvGrpSpPr>
        <p:grpSpPr>
          <a:xfrm>
            <a:off x="426960" y="4352760"/>
            <a:ext cx="773280" cy="633600"/>
            <a:chOff x="426960" y="4352760"/>
            <a:chExt cx="773280" cy="633600"/>
          </a:xfrm>
        </p:grpSpPr>
        <p:pic>
          <p:nvPicPr>
            <p:cNvPr id="198" name="Text Box 16" descr=""/>
            <p:cNvPicPr/>
            <p:nvPr/>
          </p:nvPicPr>
          <p:blipFill>
            <a:blip r:embed="rId9"/>
            <a:stretch/>
          </p:blipFill>
          <p:spPr>
            <a:xfrm>
              <a:off x="426960" y="4352760"/>
              <a:ext cx="7732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33520" y="4419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" name="Text Box 17"/>
          <p:cNvGrpSpPr/>
          <p:nvPr/>
        </p:nvGrpSpPr>
        <p:grpSpPr>
          <a:xfrm>
            <a:off x="1566720" y="4352760"/>
            <a:ext cx="927360" cy="633600"/>
            <a:chOff x="1566720" y="4352760"/>
            <a:chExt cx="927360" cy="633600"/>
          </a:xfrm>
        </p:grpSpPr>
        <p:pic>
          <p:nvPicPr>
            <p:cNvPr id="201" name="Text Box 17" descr=""/>
            <p:cNvPicPr/>
            <p:nvPr/>
          </p:nvPicPr>
          <p:blipFill>
            <a:blip r:embed="rId10"/>
            <a:stretch/>
          </p:blipFill>
          <p:spPr>
            <a:xfrm>
              <a:off x="1566720" y="4352760"/>
              <a:ext cx="9273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676520" y="44197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3" name="Text Box 18"/>
          <p:cNvGrpSpPr/>
          <p:nvPr/>
        </p:nvGrpSpPr>
        <p:grpSpPr>
          <a:xfrm>
            <a:off x="-55440" y="5065560"/>
            <a:ext cx="1330200" cy="1621080"/>
            <a:chOff x="-55440" y="5065560"/>
            <a:chExt cx="1330200" cy="1621080"/>
          </a:xfrm>
        </p:grpSpPr>
        <p:pic>
          <p:nvPicPr>
            <p:cNvPr id="204" name="Text Box 18" descr=""/>
            <p:cNvPicPr/>
            <p:nvPr/>
          </p:nvPicPr>
          <p:blipFill>
            <a:blip r:embed="rId11"/>
            <a:stretch/>
          </p:blipFill>
          <p:spPr>
            <a:xfrm>
              <a:off x="-55440" y="5065560"/>
              <a:ext cx="133020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0" y="5105520"/>
              <a:ext cx="121932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Настави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започет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нови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анализ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ст</a:t>
              </a:r>
              <a:r>
                <a:rPr b="0" lang="sr-CS" sz="1200" spc="-1" strike="noStrike">
                  <a:solidFill>
                    <a:srgbClr val="000099"/>
                  </a:solidFill>
                  <a:latin typeface="Arial"/>
                </a:rPr>
                <a:t>и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зањ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a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р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внотежног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ста</a:t>
              </a:r>
              <a:r>
                <a:rPr b="0" lang="sr-CS" sz="1200" spc="-1" strike="noStrike">
                  <a:solidFill>
                    <a:srgbClr val="000099"/>
                  </a:solidFill>
                  <a:latin typeface="Arial"/>
                </a:rPr>
                <a:t>њ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6" name="Text Box 19"/>
          <p:cNvGrpSpPr/>
          <p:nvPr/>
        </p:nvGrpSpPr>
        <p:grpSpPr>
          <a:xfrm>
            <a:off x="1908000" y="4834080"/>
            <a:ext cx="2035440" cy="701640"/>
            <a:chOff x="1908000" y="4834080"/>
            <a:chExt cx="2035440" cy="701640"/>
          </a:xfrm>
        </p:grpSpPr>
        <p:pic>
          <p:nvPicPr>
            <p:cNvPr id="207" name="Text Box 19" descr=""/>
            <p:cNvPicPr/>
            <p:nvPr/>
          </p:nvPicPr>
          <p:blipFill>
            <a:blip r:embed="rId12"/>
            <a:stretch/>
          </p:blipFill>
          <p:spPr>
            <a:xfrm>
              <a:off x="1908000" y="4834080"/>
              <a:ext cx="2035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981080" y="4876920"/>
              <a:ext cx="19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је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постигнут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клинички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одговор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9" name="Text Box 20"/>
          <p:cNvGrpSpPr/>
          <p:nvPr/>
        </p:nvGrpSpPr>
        <p:grpSpPr>
          <a:xfrm>
            <a:off x="3548160" y="5492880"/>
            <a:ext cx="699840" cy="633240"/>
            <a:chOff x="3548160" y="5492880"/>
            <a:chExt cx="699840" cy="633240"/>
          </a:xfrm>
        </p:grpSpPr>
        <p:pic>
          <p:nvPicPr>
            <p:cNvPr id="210" name="Text Box 20" descr=""/>
            <p:cNvPicPr/>
            <p:nvPr/>
          </p:nvPicPr>
          <p:blipFill>
            <a:blip r:embed="rId13"/>
            <a:stretch/>
          </p:blipFill>
          <p:spPr>
            <a:xfrm>
              <a:off x="3548160" y="5492880"/>
              <a:ext cx="6998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657600" y="55627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Text Box 21"/>
          <p:cNvGrpSpPr/>
          <p:nvPr/>
        </p:nvGrpSpPr>
        <p:grpSpPr>
          <a:xfrm>
            <a:off x="1646280" y="5340240"/>
            <a:ext cx="925560" cy="633600"/>
            <a:chOff x="1646280" y="5340240"/>
            <a:chExt cx="925560" cy="633600"/>
          </a:xfrm>
        </p:grpSpPr>
        <p:pic>
          <p:nvPicPr>
            <p:cNvPr id="213" name="Text Box 21" descr=""/>
            <p:cNvPicPr/>
            <p:nvPr/>
          </p:nvPicPr>
          <p:blipFill>
            <a:blip r:embed="rId14"/>
            <a:stretch/>
          </p:blipFill>
          <p:spPr>
            <a:xfrm>
              <a:off x="1646280" y="5340240"/>
              <a:ext cx="9255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752480" y="54100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Text Box 22"/>
          <p:cNvGrpSpPr/>
          <p:nvPr/>
        </p:nvGrpSpPr>
        <p:grpSpPr>
          <a:xfrm>
            <a:off x="3828960" y="6211800"/>
            <a:ext cx="1103400" cy="792360"/>
            <a:chOff x="3828960" y="6211800"/>
            <a:chExt cx="1103400" cy="792360"/>
          </a:xfrm>
        </p:grpSpPr>
        <p:pic>
          <p:nvPicPr>
            <p:cNvPr id="216" name="Text Box 22" descr=""/>
            <p:cNvPicPr/>
            <p:nvPr/>
          </p:nvPicPr>
          <p:blipFill>
            <a:blip r:embed="rId15"/>
            <a:stretch/>
          </p:blipFill>
          <p:spPr>
            <a:xfrm>
              <a:off x="3828960" y="6211800"/>
              <a:ext cx="110340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86200" y="6248520"/>
              <a:ext cx="99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Настави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започет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8" name="Text Box 23"/>
          <p:cNvGrpSpPr/>
          <p:nvPr/>
        </p:nvGrpSpPr>
        <p:grpSpPr>
          <a:xfrm>
            <a:off x="1238400" y="5851440"/>
            <a:ext cx="2400120" cy="1281240"/>
            <a:chOff x="1238400" y="5851440"/>
            <a:chExt cx="2400120" cy="1281240"/>
          </a:xfrm>
        </p:grpSpPr>
        <p:pic>
          <p:nvPicPr>
            <p:cNvPr id="219" name="Text Box 23" descr=""/>
            <p:cNvPicPr/>
            <p:nvPr/>
          </p:nvPicPr>
          <p:blipFill>
            <a:blip r:embed="rId16"/>
            <a:stretch/>
          </p:blipFill>
          <p:spPr>
            <a:xfrm>
              <a:off x="1238400" y="5851440"/>
              <a:ext cx="24001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295280" y="5896080"/>
              <a:ext cx="228600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већа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нови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анализ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сле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5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т</a:t>
              </a:r>
              <a:r>
                <a:rPr b="0" lang="sr-Latn-CS" sz="1200" spc="-1" strike="noStrike" baseline="-25000">
                  <a:solidFill>
                    <a:srgbClr val="000099"/>
                  </a:solidFill>
                  <a:latin typeface="Arial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24"/>
          <p:cNvSpPr/>
          <p:nvPr/>
        </p:nvSpPr>
        <p:spPr>
          <a:xfrm>
            <a:off x="6004080" y="300816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2" name="Text Box 25"/>
          <p:cNvGrpSpPr/>
          <p:nvPr/>
        </p:nvGrpSpPr>
        <p:grpSpPr>
          <a:xfrm>
            <a:off x="5608800" y="3139920"/>
            <a:ext cx="2754000" cy="1146240"/>
            <a:chOff x="5608800" y="3139920"/>
            <a:chExt cx="2754000" cy="1146240"/>
          </a:xfrm>
        </p:grpSpPr>
        <p:pic>
          <p:nvPicPr>
            <p:cNvPr id="223" name="Text Box 25" descr=""/>
            <p:cNvPicPr/>
            <p:nvPr/>
          </p:nvPicPr>
          <p:blipFill>
            <a:blip r:embed="rId17"/>
            <a:stretch/>
          </p:blipFill>
          <p:spPr>
            <a:xfrm>
              <a:off x="5608800" y="3139920"/>
              <a:ext cx="275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715000" y="320040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ацијент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оказује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знаке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токсичнос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5" name="Text Box 26"/>
          <p:cNvGrpSpPr/>
          <p:nvPr/>
        </p:nvGrpSpPr>
        <p:grpSpPr>
          <a:xfrm>
            <a:off x="5224320" y="4048200"/>
            <a:ext cx="1079640" cy="633240"/>
            <a:chOff x="5224320" y="4048200"/>
            <a:chExt cx="1079640" cy="633240"/>
          </a:xfrm>
        </p:grpSpPr>
        <p:pic>
          <p:nvPicPr>
            <p:cNvPr id="226" name="Text Box 26" descr=""/>
            <p:cNvPicPr/>
            <p:nvPr/>
          </p:nvPicPr>
          <p:blipFill>
            <a:blip r:embed="rId18"/>
            <a:stretch/>
          </p:blipFill>
          <p:spPr>
            <a:xfrm>
              <a:off x="5224320" y="4048200"/>
              <a:ext cx="10796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334120" y="4114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8" name="Text Box 27"/>
          <p:cNvGrpSpPr/>
          <p:nvPr/>
        </p:nvGrpSpPr>
        <p:grpSpPr>
          <a:xfrm>
            <a:off x="7284960" y="4048200"/>
            <a:ext cx="1230480" cy="633240"/>
            <a:chOff x="7284960" y="4048200"/>
            <a:chExt cx="1230480" cy="633240"/>
          </a:xfrm>
        </p:grpSpPr>
        <p:pic>
          <p:nvPicPr>
            <p:cNvPr id="229" name="Text Box 27" descr=""/>
            <p:cNvPicPr/>
            <p:nvPr/>
          </p:nvPicPr>
          <p:blipFill>
            <a:blip r:embed="rId19"/>
            <a:stretch/>
          </p:blipFill>
          <p:spPr>
            <a:xfrm>
              <a:off x="7284960" y="4048200"/>
              <a:ext cx="1230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391520" y="4114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" name="Text Box 28"/>
          <p:cNvGrpSpPr/>
          <p:nvPr/>
        </p:nvGrpSpPr>
        <p:grpSpPr>
          <a:xfrm>
            <a:off x="4943520" y="4754520"/>
            <a:ext cx="1665360" cy="2127240"/>
            <a:chOff x="4943520" y="4754520"/>
            <a:chExt cx="1665360" cy="2127240"/>
          </a:xfrm>
        </p:grpSpPr>
        <p:pic>
          <p:nvPicPr>
            <p:cNvPr id="232" name="Text Box 28" descr=""/>
            <p:cNvPicPr/>
            <p:nvPr/>
          </p:nvPicPr>
          <p:blipFill>
            <a:blip r:embed="rId20"/>
            <a:stretch/>
          </p:blipFill>
          <p:spPr>
            <a:xfrm>
              <a:off x="4943520" y="4754520"/>
              <a:ext cx="166536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029200" y="4805280"/>
              <a:ext cx="1523880" cy="19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Редуковат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ил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наставит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започету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Прати</a:t>
              </a:r>
              <a:r>
                <a:rPr b="1" lang="sr-CS" sz="1600" spc="-1" strike="noStrike">
                  <a:solidFill>
                    <a:srgbClr val="000099"/>
                  </a:solidFill>
                  <a:latin typeface="Arial"/>
                </a:rPr>
                <a:t>т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конц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Text Box 29"/>
          <p:cNvGrpSpPr/>
          <p:nvPr/>
        </p:nvGrpSpPr>
        <p:grpSpPr>
          <a:xfrm>
            <a:off x="7211880" y="4664160"/>
            <a:ext cx="1683000" cy="1560600"/>
            <a:chOff x="7211880" y="4664160"/>
            <a:chExt cx="1683000" cy="1560600"/>
          </a:xfrm>
        </p:grpSpPr>
        <p:pic>
          <p:nvPicPr>
            <p:cNvPr id="235" name="Text Box 29" descr=""/>
            <p:cNvPicPr/>
            <p:nvPr/>
          </p:nvPicPr>
          <p:blipFill>
            <a:blip r:embed="rId21"/>
            <a:stretch/>
          </p:blipFill>
          <p:spPr>
            <a:xfrm>
              <a:off x="7211880" y="4664160"/>
              <a:ext cx="16830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315200" y="4724280"/>
              <a:ext cx="15238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Коригова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рати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конц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7" name="Line 30"/>
          <p:cNvSpPr/>
          <p:nvPr/>
        </p:nvSpPr>
        <p:spPr>
          <a:xfrm>
            <a:off x="1981080" y="16002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31"/>
          <p:cNvSpPr/>
          <p:nvPr/>
        </p:nvSpPr>
        <p:spPr>
          <a:xfrm>
            <a:off x="3886200" y="2209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32"/>
          <p:cNvSpPr/>
          <p:nvPr/>
        </p:nvSpPr>
        <p:spPr>
          <a:xfrm>
            <a:off x="510552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33"/>
          <p:cNvSpPr/>
          <p:nvPr/>
        </p:nvSpPr>
        <p:spPr>
          <a:xfrm>
            <a:off x="6019920" y="17524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34"/>
          <p:cNvSpPr/>
          <p:nvPr/>
        </p:nvSpPr>
        <p:spPr>
          <a:xfrm flipH="1">
            <a:off x="2743200" y="152388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35"/>
          <p:cNvSpPr/>
          <p:nvPr/>
        </p:nvSpPr>
        <p:spPr>
          <a:xfrm>
            <a:off x="2819520" y="236232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36"/>
          <p:cNvSpPr/>
          <p:nvPr/>
        </p:nvSpPr>
        <p:spPr>
          <a:xfrm flipH="1">
            <a:off x="1523880" y="2666880"/>
            <a:ext cx="9144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37"/>
          <p:cNvSpPr/>
          <p:nvPr/>
        </p:nvSpPr>
        <p:spPr>
          <a:xfrm>
            <a:off x="3429000" y="2666880"/>
            <a:ext cx="19810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38"/>
          <p:cNvSpPr/>
          <p:nvPr/>
        </p:nvSpPr>
        <p:spPr>
          <a:xfrm>
            <a:off x="144792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39"/>
          <p:cNvSpPr/>
          <p:nvPr/>
        </p:nvSpPr>
        <p:spPr>
          <a:xfrm flipH="1">
            <a:off x="761760" y="4191120"/>
            <a:ext cx="6094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40"/>
          <p:cNvSpPr/>
          <p:nvPr/>
        </p:nvSpPr>
        <p:spPr>
          <a:xfrm>
            <a:off x="1523880" y="4191120"/>
            <a:ext cx="4572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41"/>
          <p:cNvSpPr/>
          <p:nvPr/>
        </p:nvSpPr>
        <p:spPr>
          <a:xfrm>
            <a:off x="762120" y="48006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2514600" y="45720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3657600" y="5410080"/>
            <a:ext cx="15228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46"/>
          <p:cNvSpPr/>
          <p:nvPr/>
        </p:nvSpPr>
        <p:spPr>
          <a:xfrm>
            <a:off x="4038480" y="59436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2209680" y="5334120"/>
            <a:ext cx="7632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48"/>
          <p:cNvSpPr/>
          <p:nvPr/>
        </p:nvSpPr>
        <p:spPr>
          <a:xfrm>
            <a:off x="2133720" y="571500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49"/>
          <p:cNvSpPr/>
          <p:nvPr/>
        </p:nvSpPr>
        <p:spPr>
          <a:xfrm>
            <a:off x="7010280" y="29718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50"/>
          <p:cNvSpPr/>
          <p:nvPr/>
        </p:nvSpPr>
        <p:spPr>
          <a:xfrm flipH="1">
            <a:off x="6019920" y="388620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51"/>
          <p:cNvSpPr/>
          <p:nvPr/>
        </p:nvSpPr>
        <p:spPr>
          <a:xfrm>
            <a:off x="5715000" y="44956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52"/>
          <p:cNvSpPr/>
          <p:nvPr/>
        </p:nvSpPr>
        <p:spPr>
          <a:xfrm>
            <a:off x="7010280" y="3886200"/>
            <a:ext cx="83844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7924680" y="44956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92"/>
          <p:cNvSpPr/>
          <p:nvPr/>
        </p:nvSpPr>
        <p:spPr>
          <a:xfrm flipV="1">
            <a:off x="6019920" y="1752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1371240"/>
            <a:ext cx="838188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Ш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М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рм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пис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ргани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дређ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птима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јефикасн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бег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ећ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вак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фек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мење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дноста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тврд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чиглед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бољшањ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јагностичк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цедур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ер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рв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уко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римењује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МЛ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бр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релациј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лаз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центрациј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ског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го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ој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велик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ндивидуалн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азлик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лаз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центрација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т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мал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ск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ши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ефекат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једноставн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змерит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мерењем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итиск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нтихипертензив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Зашто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важан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МЛ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фикас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езбед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а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шири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лифарма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Н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тврд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з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пис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рењ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његов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птимиза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псег”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спон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лазм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езбедан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фикасан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ређен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00400" y="1752480"/>
            <a:ext cx="220968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оксичнос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200400" y="2819520"/>
            <a:ext cx="2209680" cy="114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птимална терапиј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200400" y="3886200"/>
            <a:ext cx="220968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убтерапијски ефекат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5486400" y="2819520"/>
            <a:ext cx="380880" cy="106668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095880" y="2743200"/>
            <a:ext cx="2362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Терапијски</a:t>
            </a: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опсе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80880" y="28954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ораст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концентрације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лазми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1"/>
          <p:cNvSpPr/>
          <p:nvPr/>
        </p:nvSpPr>
        <p:spPr>
          <a:xfrm flipV="1">
            <a:off x="2590920" y="190512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оје лекове се спроводи Т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T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1828800"/>
          <a:ext cx="8153280" cy="441180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31240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apijska gru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ka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kovi za lečenje kardiovaskularnih bole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gok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ngestivna bolest srca, aritm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698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ibio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minoglikozidi (gentamic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kterijske infekcije rezistentne na manje toksične antibioti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iepilep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bamazepi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nobarbit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nitoin, valpr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pileps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nhodilat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ofi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tma, hronična opstruktivna bolest pluća (COP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уносупреси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клоспорин</a:t>
                      </a: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ролиму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ролим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венција одбацивања трансплантираних орга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iholep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ij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res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псез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к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окс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-2 ng/ml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тамиц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10 mg/l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ок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-5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м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-1,4 mEq/l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т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5 mg/l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фил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 mg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ба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40 mg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Циклу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рмацеут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г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Content Placeholder 1025"/>
          <p:cNvGrpSpPr/>
          <p:nvPr/>
        </p:nvGrpSpPr>
        <p:grpSpPr>
          <a:xfrm>
            <a:off x="2478240" y="1828800"/>
            <a:ext cx="4265280" cy="4037760"/>
            <a:chOff x="2478240" y="1828800"/>
            <a:chExt cx="4265280" cy="4037760"/>
          </a:xfrm>
        </p:grpSpPr>
        <p:sp>
          <p:nvSpPr>
            <p:cNvPr id="148" name="_s1028"/>
            <p:cNvSpPr/>
            <p:nvPr/>
          </p:nvSpPr>
          <p:spPr>
            <a:xfrm>
              <a:off x="3160800" y="1828800"/>
              <a:ext cx="2900160" cy="274572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2745720"/>
                <a:gd name="textAreaBottom" fmla="*/ 2746080 h 274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_s1029"/>
            <p:cNvSpPr/>
            <p:nvPr/>
          </p:nvSpPr>
          <p:spPr>
            <a:xfrm rot="5400000">
              <a:off x="3920400" y="2397240"/>
              <a:ext cx="2745720" cy="2900520"/>
            </a:xfrm>
            <a:custGeom>
              <a:avLst/>
              <a:gdLst>
                <a:gd name="textAreaLeft" fmla="*/ 0 w 2745720"/>
                <a:gd name="textAreaRight" fmla="*/ 2746080 w 2745720"/>
                <a:gd name="textAreaTop" fmla="*/ 0 h 2900520"/>
                <a:gd name="textAreaBottom" fmla="*/ 2900520 h 290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_s1030"/>
            <p:cNvSpPr/>
            <p:nvPr/>
          </p:nvSpPr>
          <p:spPr>
            <a:xfrm rot="10800000">
              <a:off x="3160800" y="3120840"/>
              <a:ext cx="2900160" cy="274572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2745720"/>
                <a:gd name="textAreaBottom" fmla="*/ 2746080 h 274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_s1031"/>
            <p:cNvSpPr/>
            <p:nvPr/>
          </p:nvSpPr>
          <p:spPr>
            <a:xfrm rot="16200000">
              <a:off x="2555280" y="2397240"/>
              <a:ext cx="2745720" cy="2900160"/>
            </a:xfrm>
            <a:custGeom>
              <a:avLst/>
              <a:gdLst>
                <a:gd name="textAreaLeft" fmla="*/ 0 w 2745720"/>
                <a:gd name="textAreaRight" fmla="*/ 2746080 w 2745720"/>
                <a:gd name="textAreaTop" fmla="*/ 0 h 2900160"/>
                <a:gd name="textAreaBottom" fmla="*/ 2900520 h 29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_s1032"/>
            <p:cNvSpPr/>
            <p:nvPr/>
          </p:nvSpPr>
          <p:spPr>
            <a:xfrm>
              <a:off x="5381640" y="2081160"/>
              <a:ext cx="1092240" cy="10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ОЦЕН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ТЕРАПИЈЕ 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ИМПЛЕМЕНТАЦИЈ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ИЗМЕ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_s1033"/>
            <p:cNvSpPr/>
            <p:nvPr/>
          </p:nvSpPr>
          <p:spPr>
            <a:xfrm>
              <a:off x="2746440" y="4577400"/>
              <a:ext cx="1092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АЋЕЊ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ИСХОД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ЛЕЧЕЊ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2744640" y="2082600"/>
              <a:ext cx="1092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ДЕТАЉ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ОЦЕ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ОБЛЕМ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_s1035"/>
            <p:cNvSpPr/>
            <p:nvPr/>
          </p:nvSpPr>
          <p:spPr>
            <a:xfrm>
              <a:off x="5381640" y="4575960"/>
              <a:ext cx="1092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0000"/>
                  </a:solidFill>
                  <a:latin typeface="Comic Sans MS"/>
                </a:rPr>
                <a:t>ТЕРАПИЈСК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0000"/>
                  </a:solidFill>
                  <a:latin typeface="Comic Sans MS"/>
                </a:rPr>
                <a:t>МОНИТОРИНГ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esela</dc:creator>
  <dc:description/>
  <dc:language>en-US</dc:language>
  <cp:lastModifiedBy>User</cp:lastModifiedBy>
  <dcterms:modified xsi:type="dcterms:W3CDTF">2019-09-12T21:59:25Z</dcterms:modified>
  <cp:revision>41</cp:revision>
  <dc:subject/>
  <dc:title>Развој фармацеутске делатности</dc:title>
</cp:coreProperties>
</file>